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7.wmf" ContentType="image/x-wmf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21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9.wmf" ContentType="image/x-wmf"/>
  <Override PartName="/ppt/media/image1.wmf" ContentType="image/x-wmf"/>
  <Override PartName="/ppt/media/image2.png" ContentType="image/png"/>
  <Override PartName="/ppt/media/image17.gif" ContentType="image/gif"/>
  <Override PartName="/ppt/media/image22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543888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2976120" y="549000"/>
            <a:ext cx="3651480" cy="27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958680" y="3473280"/>
            <a:ext cx="7683840" cy="32925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543888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5F4FAB-3648-4009-AAE0-190B2208504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2A3B77-208E-4305-BF1E-5C6F7967412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1480" cy="27399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58680" y="3473280"/>
            <a:ext cx="768384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AC9D3F-74CF-4C56-8BDC-983B8394E2B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976480" y="547560"/>
            <a:ext cx="3654360" cy="2741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58680" y="3472920"/>
            <a:ext cx="7683840" cy="32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1FB1A5-C19D-496B-955A-F7E57967172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976480" y="547560"/>
            <a:ext cx="3654360" cy="2741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58680" y="3472920"/>
            <a:ext cx="7683840" cy="32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95B0C0-D610-41A0-9982-1C40AD0FF7C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2976480" y="547560"/>
            <a:ext cx="3654360" cy="27417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58680" y="3471480"/>
            <a:ext cx="7683840" cy="32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E8AAE96-FEF9-4BA6-B4EE-9959732F72A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26FCAE9-32E6-442F-B1C3-B4FFA8E4426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A7AA52-4EAD-4552-95B5-9507FB29F95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1480" cy="27399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58680" y="3473280"/>
            <a:ext cx="768384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CE4901-1303-40F5-9518-77B2377CBAC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2AC2157-C23A-487F-8A07-4538497DE66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3309A1-7E43-4D52-8AC8-2D009CF823F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2920" cy="27399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68CE90B-F457-4959-A61F-A2D96EA8F19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1480" cy="27399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58680" y="3473280"/>
            <a:ext cx="768384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0B3574-9E3B-4292-AC2E-5A2A01D9F4E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1480" cy="27399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58680" y="3473280"/>
            <a:ext cx="768384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1C08E4F-D7C4-45A4-BA15-178D06F2CA2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5E46E95-3A1A-48FC-8F9F-58B691CD156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1480" cy="27399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58680" y="3473280"/>
            <a:ext cx="768384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121CE85-E39E-478A-AC77-F04F762CFD0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1480" cy="27399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58680" y="3473280"/>
            <a:ext cx="768384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342BD28-2C2A-44BC-AA09-0DDDD913B5A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CA679E1-521A-4E4C-B8AC-8A232667C2C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BA0640A-9EF5-431E-9F85-DFE398955E0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B3A784A-439A-4FB7-8397-31574BA9C35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2049A52-EC68-436D-8931-8F9DF72B8FF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E3DD985-1185-43BE-9F85-CB4F1019A0C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1480" cy="27399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58680" y="3473280"/>
            <a:ext cx="768384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6F4E944-93FC-4C05-9566-4F0814F210C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85A2FA-75B4-44B6-B8ED-EAB977A538E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1480" cy="27399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58680" y="3473280"/>
            <a:ext cx="768384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DEA3175-DE36-4808-8D5F-C5F297ED15C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9E7089A-FE74-44AB-A63B-A1B97328BFA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1480" cy="27399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58680" y="3473280"/>
            <a:ext cx="768384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CDEC00A-61D0-44EC-97AE-8915FBEDD65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C722653-34CA-4E7A-8C68-45F46968639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D71C2C3-EB93-4230-8625-A8E5FD9707C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1480" cy="27399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58680" y="3473280"/>
            <a:ext cx="768384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4502BD6-D8E5-4FF1-8AD9-7D3EAF70AC7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8DCEF55-D855-43FA-AC1B-BC0E4D31715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2008548-F83B-4286-9277-FBBEDE5DEF2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E7CE092-84C8-4395-BEB1-0DCD8F6106E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6110AAA-9F4F-4516-BB0B-00DD559BB72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1AFA3D-AE05-47FD-8126-B45784886CE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976480" y="547560"/>
            <a:ext cx="3654360" cy="2741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58680" y="3472920"/>
            <a:ext cx="7683840" cy="32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81A675F-1DB1-4CF0-8CC7-B53286991B9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0245BB3-746F-42C2-84E0-ECC13BAECF1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754B0CE-125C-4BBB-8A16-1D440E67616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1FCC0E0-D767-4351-9E5F-C1D26522554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28C270E-E61F-4071-8ECC-C86D267E162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F2641F4-0EBE-4376-9319-E4408B798C6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7FA8C6A-BD6E-4758-A497-043DC593029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D9D0BC7-2CFC-4E31-B118-F30821378C7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0306211-14C1-4600-A1FC-99C4E40BF7B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4360" cy="27414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EA2FE09-2876-4860-A2F3-719223BD0AC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1480" cy="27399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58680" y="3473280"/>
            <a:ext cx="768384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C397EF3-546C-44EB-98D8-44F8F085684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976480" y="547560"/>
            <a:ext cx="3654360" cy="2741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58680" y="3472920"/>
            <a:ext cx="7683840" cy="32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7736F6AE-3D09-4371-8C01-C63ABADC524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2BAAB675-0987-4D2E-8E04-6AE251B1BDF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F4591C5A-724C-4C1B-BE4A-47F94EF4599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58680" y="3471840"/>
            <a:ext cx="768384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B931BD5-DBF2-4571-8388-6DDDF631428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1480" cy="27399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57240" y="3473280"/>
            <a:ext cx="768672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60AE15-FF52-4160-A69D-4797FCBA587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976480" y="549360"/>
            <a:ext cx="3651480" cy="2739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58680" y="3473280"/>
            <a:ext cx="768384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A05D6B9-216A-4681-A43C-9A39A9E1312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976480" y="547560"/>
            <a:ext cx="3654360" cy="2741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58680" y="3472920"/>
            <a:ext cx="7683840" cy="32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97E600-5F76-45CC-A6C8-1EC0E9B2E1B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976480" y="547560"/>
            <a:ext cx="3654360" cy="2741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58680" y="3472920"/>
            <a:ext cx="7683840" cy="32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B0F99F-A13F-45A2-8CB0-835D9B1AA88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976480" y="547560"/>
            <a:ext cx="3654360" cy="2741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58680" y="3472920"/>
            <a:ext cx="7683840" cy="32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503-37B6-4DF1-95A5-A89F137D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B4D7-7AC7-4820-8FE1-60806BB8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BD31-8178-447E-BBC5-0DCE86AC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271-4565-49C3-9DF4-952F16CA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C199-BCA8-4C7B-8BF5-1565082F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D63A-CD15-493C-A50A-420FF49B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6DFC-E12A-4279-9B11-C137E40F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EC33-7BEF-42DF-81D7-71C922B9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1374-35C6-404F-9205-C0130A4B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6F97-6CE3-4A49-8013-C6309A77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0ED4-271C-4C93-BD10-6D9A2ACE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9CF-AC1C-4F0F-B183-794323E3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79EE-8D8C-4605-BF2F-D7A45F09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0690-9C9C-439F-B19E-D8431AE6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F7DA-737C-4459-A574-9D4DFB2F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303A-F7B7-43D1-B5EA-637E1839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D365-36A0-43EE-9808-B675E285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23F6C-100A-49C0-9A3F-97C5A33A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13BB8-99A5-4DBF-8E04-38C2EA12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764E0-E1FE-4A3E-A0AF-51093E63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20D6A-7C4B-411A-B28E-C259F120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AA6A2-FEAB-467F-9C5A-2FD1CC4F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F1FC-DA0C-4BF1-BD38-D08EBD11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CDC5D-EC4B-4DCA-B205-25FAC600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2B31B-2309-441E-8CD9-E81D8B28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14A98-687B-413F-A25B-A14FF2AD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BC37D-3024-4A43-A525-0C2822D4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BDEE-3EA6-445F-AED1-E3592396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45FD9-7755-4700-916A-1486BA4D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D39FF-6F04-4358-948D-CF737978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6557B-F11C-4AE0-8E8F-20DE91F5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18552-05DE-4C97-AF97-E1E518C0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ED742-256E-40AA-B481-87F0EA3D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8DCF-EBD7-4B77-9C2A-5877B939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FAA4E-CF93-43C2-AD33-2A60E893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2E656-00E0-481E-8228-76F35AEE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0299C-96C2-4958-82FD-0A48931D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53298-5FEA-4B5F-BD50-ADCC0D4B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5ABB1-D682-47D6-AF36-F71F5496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BE6EF-8E5D-4BE5-AFFB-DA82D99C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704F1-018F-4D9A-B902-F42FC9A4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98BAF-52F5-43D4-AB5D-3C66F5C3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3C572-7647-418B-8DD5-73906674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F2E5-60C1-4417-9075-3CB78C37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11F1-0F14-4171-8558-F00A5F2A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5DD-A76D-4795-BF10-BAC9FCFC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FB5-0605-490A-AB7A-9AC007D4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C12-6990-41E9-8CBF-DD365AF9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5845-E248-4396-9276-B0AE5FD035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4734-AD68-47AF-89D7-65E54EE710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8F00-96EE-43C6-8D23-699C308890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27B5-AF9D-4B2F-AB40-0214837570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8164-8B89-412C-ADCE-965B4201D8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ventional energy finish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uclear Energy Int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eker &amp; Grondelle Chap.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eker &amp; Grondelle Chap. 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0 August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AD04-D728-460B-80C3-4713263936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90600"/>
            <a:ext cx="85075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me a power plant has produced 500 MW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uring 6 hours (in the night), which has to be stored in som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joules this correspond t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W = 1J/s → 1J = 1Ws (must multiply by the number of seconds the power is delive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0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J/s) x 6 (h) x 3600 (s/h) = 1.08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13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=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er pumping (100m): ~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/kg → we need to pump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g water 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~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J/kg =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/kg → we need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g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 lot but not impossible, but fuel cells that convert from 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electricity are still expens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hydrogen is produced by electrolysis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+ electric energy → 2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4528-FBCA-46FE-9489-76CF964E8E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CO, CO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, NO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, SO</a:t>
            </a:r>
            <a:r>
              <a:rPr b="0" i="1" lang="en-GB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, VOC and Particles: their majo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ctric generators (dyna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Basic Principle and load distribution on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port of electric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ower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ergy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pecific Energy vs. Specif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Highest to lowest Specific Energy: Fuels, Batteries &amp; Flywheels, Hydro-storage, Capac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0FAC-ACE5-4CA2-B7CA-6221F0395D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&amp;G Chap 5: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uclear energy – part 1</a:t>
            </a:r>
            <a:br>
              <a:rPr sz="4000"/>
            </a:br>
            <a:br>
              <a:rPr sz="40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0 August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EE10-13D6-428F-BEB4-7F06376646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pics for Today in Nuclea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basis for nuclear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sic principles of f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in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ssion power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62E2-4697-4F4F-9279-E458A2C1CA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asis for nuclea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79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ucle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+ charge), Z (= Atomic Numb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s of proton : 1,6726 x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g (~2000 x that of elect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Neutrons,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s of neutron : 1,6749 x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g (&gt; mass of pro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Nucleons, A = Z+N (=Atomic Mass, g/m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a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a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a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ay  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Nucleus de-excites and give off pho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3695760" y="3772080"/>
          <a:ext cx="3603600" cy="48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5760" y="3772080"/>
                    <a:ext cx="3603600" cy="48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Picture 5" descr=""/>
          <p:cNvPicPr/>
          <p:nvPr/>
        </p:nvPicPr>
        <p:blipFill>
          <a:blip r:embed="rId3"/>
          <a:stretch/>
        </p:blipFill>
        <p:spPr>
          <a:xfrm>
            <a:off x="7323120" y="646200"/>
            <a:ext cx="1820880" cy="1790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4"/>
          <a:stretch/>
        </p:blipFill>
        <p:spPr>
          <a:xfrm>
            <a:off x="246240" y="4510080"/>
            <a:ext cx="1677960" cy="210492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13"/>
          <p:cNvGrpSpPr/>
          <p:nvPr/>
        </p:nvGrpSpPr>
        <p:grpSpPr>
          <a:xfrm>
            <a:off x="4084560" y="5116680"/>
            <a:ext cx="5059080" cy="414000"/>
            <a:chOff x="4084560" y="5116680"/>
            <a:chExt cx="5059080" cy="414000"/>
          </a:xfrm>
        </p:grpSpPr>
        <mc:AlternateContent>
          <mc:Choice xmlns:a14="http://schemas.microsoft.com/office/drawing/2010/main" Requires="a14">
            <p:sp>
              <p:nvSpPr>
                <p:cNvPr id="227" name="Object 9"/>
                <p:cNvSpPr txBox="1"/>
                <p:nvPr/>
              </p:nvSpPr>
              <p:spPr>
                <a:xfrm>
                  <a:off x="4084560" y="5116680"/>
                  <a:ext cx="2303640" cy="41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6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</m:sSub>
                      <m:r>
                        <m:t xml:space="preserve">→</m:t>
                      </m:r>
                      <m:sPre>
                        <m:sub>
                          <m:r>
                            <m:t xml:space="preserve">7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7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ν</m:t>
                              </m:r>
                            </m:e>
                          </m:acc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8" name="Text Box 11"/>
            <p:cNvSpPr/>
            <p:nvPr/>
          </p:nvSpPr>
          <p:spPr>
            <a:xfrm>
              <a:off x="6686280" y="5175720"/>
              <a:ext cx="245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neutron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proton+ener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4"/>
          <p:cNvGrpSpPr/>
          <p:nvPr/>
        </p:nvGrpSpPr>
        <p:grpSpPr>
          <a:xfrm>
            <a:off x="4127400" y="5742000"/>
            <a:ext cx="5059440" cy="442800"/>
            <a:chOff x="4127400" y="5742000"/>
            <a:chExt cx="5059440" cy="442800"/>
          </a:xfrm>
        </p:grpSpPr>
        <mc:AlternateContent>
          <mc:Choice xmlns:a14="http://schemas.microsoft.com/office/drawing/2010/main" Requires="a14">
            <p:sp>
              <p:nvSpPr>
                <p:cNvPr id="230" name="Object 10"/>
                <p:cNvSpPr txBox="1"/>
                <p:nvPr/>
              </p:nvSpPr>
              <p:spPr>
                <a:xfrm>
                  <a:off x="4127400" y="5742000"/>
                  <a:ext cx="235584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9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9</m:t>
                          </m:r>
                        </m:sub>
                      </m:sSub>
                      <m:r>
                        <m:t xml:space="preserve">→</m:t>
                      </m:r>
                      <m:sPre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7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ν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Text Box 12"/>
            <p:cNvSpPr/>
            <p:nvPr/>
          </p:nvSpPr>
          <p:spPr>
            <a:xfrm>
              <a:off x="6734160" y="5803920"/>
              <a:ext cx="24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proton+energy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neu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6"/>
          <p:cNvGrpSpPr/>
          <p:nvPr/>
        </p:nvGrpSpPr>
        <p:grpSpPr>
          <a:xfrm>
            <a:off x="4083120" y="4457880"/>
            <a:ext cx="5060520" cy="647640"/>
            <a:chOff x="4083120" y="4457880"/>
            <a:chExt cx="5060520" cy="647640"/>
          </a:xfrm>
        </p:grpSpPr>
        <mc:AlternateContent>
          <mc:Choice xmlns:a14="http://schemas.microsoft.com/office/drawing/2010/main" Requires="a14">
            <p:sp>
              <p:nvSpPr>
                <p:cNvPr id="233" name="Object 8"/>
                <p:cNvSpPr txBox="1"/>
                <p:nvPr/>
              </p:nvSpPr>
              <p:spPr>
                <a:xfrm>
                  <a:off x="4083120" y="4457880"/>
                  <a:ext cx="2736360" cy="44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106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263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S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57</m:t>
                          </m:r>
                        </m:sub>
                      </m:sSub>
                      <m:r>
                        <m:t xml:space="preserve">→</m:t>
                      </m:r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104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259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55</m:t>
                          </m:r>
                        </m:sub>
                      </m:sSub>
                      <m:r>
                        <m:t xml:space="preserve">+</m:t>
                      </m:r>
                      <m:sPr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4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He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Text Box 15"/>
            <p:cNvSpPr/>
            <p:nvPr/>
          </p:nvSpPr>
          <p:spPr>
            <a:xfrm>
              <a:off x="6945840" y="4524840"/>
              <a:ext cx="2197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emit 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-particle= </a:t>
              </a:r>
              <a:r>
                <a:rPr b="0" lang="en-US" sz="1600" spc="-1" strike="noStrike" baseline="30000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He + 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        ener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1"/>
          <p:cNvSpPr/>
          <p:nvPr/>
        </p:nvSpPr>
        <p:spPr>
          <a:xfrm>
            <a:off x="6540480" y="5487840"/>
            <a:ext cx="25858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Means gets converted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3E2B-AEB6-4E80-8C9A-0E17F8CCEA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e Decay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ay is a high energy pho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visible photons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ays can be emitted when a nucleus undergoes a transition from one such configuration to another. E.g. when the shape of the nucleus undergoes a chan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the mass number nor the atomic number is changed when a nucleus emits a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ay in the rea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D631-3BA4-4797-91E5-7ABAFB0DA8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table5"/>
          <p:cNvPicPr/>
          <p:nvPr/>
        </p:nvPicPr>
        <p:blipFill>
          <a:blip r:embed="rId1"/>
          <a:srcRect l="3642" t="0" r="0" b="0"/>
          <a:stretch/>
        </p:blipFill>
        <p:spPr>
          <a:xfrm>
            <a:off x="171360" y="1484280"/>
            <a:ext cx="8972640" cy="25336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"/>
          <p:cNvSpPr/>
          <p:nvPr/>
        </p:nvSpPr>
        <p:spPr>
          <a:xfrm>
            <a:off x="3637440" y="306864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posi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3495240" y="335592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electromagnetic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7328520" y="2781360"/>
            <a:ext cx="3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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7328520" y="3048120"/>
            <a:ext cx="3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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6443640" y="2565360"/>
            <a:ext cx="12970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6443640" y="2854440"/>
            <a:ext cx="12970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6443640" y="3070080"/>
            <a:ext cx="129708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6443640" y="3357720"/>
            <a:ext cx="12970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1CA3-607E-48A9-BFA8-17D2608455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l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ime dependence of the (spontaneous) decay of a radioactive nucleus fo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(t) = 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xp(-t / </a:t>
            </a:r>
            <a:r>
              <a:rPr b="0" lang="en-GB" sz="20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presents the number of nuclei at time t=0 and </a:t>
            </a:r>
            <a:r>
              <a:rPr b="0" lang="en-GB" sz="20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he decay cons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alf-life t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½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he time when the number of nuclei is reduced to 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1565280" y="4508640"/>
                <a:ext cx="59436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/2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/2</m:t>
                            </m:r>
                          </m:sub>
                        </m:sSub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⇔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/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3" name="Picture 5" descr="table5"/>
          <p:cNvPicPr/>
          <p:nvPr/>
        </p:nvPicPr>
        <p:blipFill>
          <a:blip r:embed="rId1"/>
          <a:srcRect l="0" t="0" r="0" b="15748"/>
          <a:stretch/>
        </p:blipFill>
        <p:spPr>
          <a:xfrm>
            <a:off x="250920" y="5116680"/>
            <a:ext cx="8497800" cy="16160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6"/>
          <p:cNvSpPr/>
          <p:nvPr/>
        </p:nvSpPr>
        <p:spPr>
          <a:xfrm>
            <a:off x="5148360" y="5589720"/>
            <a:ext cx="1584360" cy="10792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0BFC-D583-44FD-A2F6-73532AF47D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lf lif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900000" y="1773360"/>
          <a:ext cx="7058160" cy="3743280"/>
        </p:xfrm>
        <a:graphic>
          <a:graphicData uri="http://schemas.openxmlformats.org/drawingml/2006/table">
            <a:tbl>
              <a:tblPr/>
              <a:tblGrid>
                <a:gridCol w="1847880"/>
                <a:gridCol w="2438640"/>
                <a:gridCol w="2771640"/>
              </a:tblGrid>
              <a:tr h="576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to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f-life  T</a:t>
                      </a:r>
                      <a:r>
                        <a:rPr b="1" lang="en-GB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a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00 000 00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a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35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000 00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to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39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00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es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 (tritiu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t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5 da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Text Box 37"/>
          <p:cNvSpPr/>
          <p:nvPr/>
        </p:nvSpPr>
        <p:spPr>
          <a:xfrm>
            <a:off x="2848320" y="5516640"/>
            <a:ext cx="49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arth was formed 5 000 000 000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9ED1-B1D4-4AB6-8B29-E6B3EEC2AF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ding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40840" y="1599840"/>
            <a:ext cx="87138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eparate the particles in the nucleus (nucleons), they must be pulled apart against the attractive strong fo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ke separating magne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have potential energy when they are sepa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the particles come together to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orm a nucle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ir potential energy decreases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iberates energy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ergy must be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ut 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epar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nucleons of a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nding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energy needed to bind them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needed to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onds (and therefore the Energy released when bonds ar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m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7954-F682-48DF-8008-A72AF30DF2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79360" y="1258920"/>
            <a:ext cx="86868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t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internal combustion engine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am engines, the Stirling engine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cycles, work &amp;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icity generation via Steam turbines, Gas turbines-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how they work, typical overall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ined system efficiency-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  <a:ea typeface="Arial Unicode MS"/>
              </a:rPr>
              <a:t>how to cal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lution and pollution manage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CO, CO</a:t>
            </a:r>
            <a:r>
              <a:rPr b="0" i="1" lang="en-GB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, NO</a:t>
            </a:r>
            <a:r>
              <a:rPr b="0" i="1" lang="en-GB" sz="28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, SO</a:t>
            </a:r>
            <a:r>
              <a:rPr b="0" i="1" lang="en-GB" sz="28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, VOC and Particles: their major sources and health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ic generators (dynamos)-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Basic Principle and load distribution on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4821-9CF8-473F-A2B4-295DC4EF1A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fig5"/>
          <p:cNvPicPr/>
          <p:nvPr/>
        </p:nvPicPr>
        <p:blipFill>
          <a:blip r:embed="rId1"/>
          <a:stretch/>
        </p:blipFill>
        <p:spPr>
          <a:xfrm>
            <a:off x="3670200" y="1052640"/>
            <a:ext cx="5473800" cy="48290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nding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1004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energy is a function of Mass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=56 (Iron) is a peak (Fe is the most stable el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us in decay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heavy nuclei (A&gt;&gt;56) decay into lighter ones (A&gt;5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light nuclei (A&lt;&lt;56) decay into heavier ones (A&lt;56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Binding ener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er nucleon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creases (</a:t>
            </a: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lease Energy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Energy will be released in the processes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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E=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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mc</a:t>
            </a:r>
            <a:r>
              <a:rPr b="0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9"/>
          <p:cNvGrpSpPr/>
          <p:nvPr/>
        </p:nvGrpSpPr>
        <p:grpSpPr>
          <a:xfrm>
            <a:off x="7416720" y="2103480"/>
            <a:ext cx="1503360" cy="1344240"/>
            <a:chOff x="7416720" y="2103480"/>
            <a:chExt cx="1503360" cy="1344240"/>
          </a:xfrm>
        </p:grpSpPr>
        <p:sp>
          <p:nvSpPr>
            <p:cNvPr id="267" name="Freeform 6"/>
            <p:cNvSpPr/>
            <p:nvPr/>
          </p:nvSpPr>
          <p:spPr>
            <a:xfrm>
              <a:off x="7416720" y="2103480"/>
              <a:ext cx="1503360" cy="406440"/>
            </a:xfrm>
            <a:custGeom>
              <a:avLst/>
              <a:gdLst/>
              <a:ahLst/>
              <a:rect l="l" t="t" r="r" b="b"/>
              <a:pathLst>
                <a:path w="947" h="256">
                  <a:moveTo>
                    <a:pt x="947" y="256"/>
                  </a:moveTo>
                  <a:cubicBezTo>
                    <a:pt x="865" y="233"/>
                    <a:pt x="612" y="158"/>
                    <a:pt x="454" y="115"/>
                  </a:cubicBezTo>
                  <a:cubicBezTo>
                    <a:pt x="296" y="72"/>
                    <a:pt x="95" y="24"/>
                    <a:pt x="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7"/>
            <p:cNvSpPr/>
            <p:nvPr/>
          </p:nvSpPr>
          <p:spPr>
            <a:xfrm>
              <a:off x="7629840" y="2349360"/>
              <a:ext cx="11818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ssion</a:t>
              </a:r>
              <a:br>
                <a:rPr sz="18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reak a heavy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ne apart to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form 1 or more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lighter 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0"/>
          <p:cNvGrpSpPr/>
          <p:nvPr/>
        </p:nvGrpSpPr>
        <p:grpSpPr>
          <a:xfrm>
            <a:off x="5018400" y="2835360"/>
            <a:ext cx="1636200" cy="1241280"/>
            <a:chOff x="5018400" y="2835360"/>
            <a:chExt cx="1636200" cy="1241280"/>
          </a:xfrm>
        </p:grpSpPr>
        <p:sp>
          <p:nvSpPr>
            <p:cNvPr id="270" name="Freeform 5"/>
            <p:cNvSpPr/>
            <p:nvPr/>
          </p:nvSpPr>
          <p:spPr>
            <a:xfrm>
              <a:off x="5045040" y="2835360"/>
              <a:ext cx="106560" cy="1241280"/>
            </a:xfrm>
            <a:custGeom>
              <a:avLst/>
              <a:gdLst/>
              <a:ahLst/>
              <a:rect l="l" t="t" r="r" b="b"/>
              <a:pathLst>
                <a:path w="67" h="782">
                  <a:moveTo>
                    <a:pt x="14" y="782"/>
                  </a:moveTo>
                  <a:cubicBezTo>
                    <a:pt x="13" y="719"/>
                    <a:pt x="0" y="533"/>
                    <a:pt x="9" y="403"/>
                  </a:cubicBezTo>
                  <a:cubicBezTo>
                    <a:pt x="18" y="273"/>
                    <a:pt x="55" y="84"/>
                    <a:pt x="67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8"/>
            <p:cNvSpPr/>
            <p:nvPr/>
          </p:nvSpPr>
          <p:spPr>
            <a:xfrm>
              <a:off x="5018400" y="3084480"/>
              <a:ext cx="163620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sion</a:t>
              </a:r>
              <a:br>
                <a:rPr sz="18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mush very light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nes together to form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 heavier 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DE7A-F12C-4B11-9EF6-E9FB271458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fig5"/>
          <p:cNvPicPr/>
          <p:nvPr/>
        </p:nvPicPr>
        <p:blipFill>
          <a:blip r:embed="rId1"/>
          <a:stretch/>
        </p:blipFill>
        <p:spPr>
          <a:xfrm>
            <a:off x="2125800" y="1819440"/>
            <a:ext cx="5473440" cy="4829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222120" y="1484280"/>
            <a:ext cx="22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3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9"/>
          <p:cNvGrpSpPr/>
          <p:nvPr/>
        </p:nvGrpSpPr>
        <p:grpSpPr>
          <a:xfrm>
            <a:off x="6708600" y="2965320"/>
            <a:ext cx="1865520" cy="1952640"/>
            <a:chOff x="6708600" y="2965320"/>
            <a:chExt cx="1865520" cy="1952640"/>
          </a:xfrm>
        </p:grpSpPr>
        <p:sp>
          <p:nvSpPr>
            <p:cNvPr id="277" name="Text Box 8"/>
            <p:cNvSpPr/>
            <p:nvPr/>
          </p:nvSpPr>
          <p:spPr>
            <a:xfrm>
              <a:off x="6708600" y="3546360"/>
              <a:ext cx="18655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akes this much energy to break </a:t>
              </a:r>
              <a:r>
                <a:rPr b="0" lang="en-US" sz="1800" spc="-1" strike="noStrike" baseline="30000">
                  <a:solidFill>
                    <a:srgbClr val="ff0000"/>
                  </a:solidFill>
                  <a:latin typeface="Arial"/>
                </a:rPr>
                <a:t>236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 ap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7"/>
            <p:cNvSpPr/>
            <p:nvPr/>
          </p:nvSpPr>
          <p:spPr>
            <a:xfrm flipV="1">
              <a:off x="6783480" y="2965320"/>
              <a:ext cx="0" cy="1952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3"/>
          <p:cNvGrpSpPr/>
          <p:nvPr/>
        </p:nvGrpSpPr>
        <p:grpSpPr>
          <a:xfrm>
            <a:off x="3546360" y="2593800"/>
            <a:ext cx="1495440" cy="2335320"/>
            <a:chOff x="3546360" y="2593800"/>
            <a:chExt cx="1495440" cy="2335320"/>
          </a:xfrm>
        </p:grpSpPr>
        <p:sp>
          <p:nvSpPr>
            <p:cNvPr id="280" name="Line 10"/>
            <p:cNvSpPr/>
            <p:nvPr/>
          </p:nvSpPr>
          <p:spPr>
            <a:xfrm flipH="1">
              <a:off x="4992840" y="2593800"/>
              <a:ext cx="10800" cy="2335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1"/>
            <p:cNvSpPr/>
            <p:nvPr/>
          </p:nvSpPr>
          <p:spPr>
            <a:xfrm>
              <a:off x="3546360" y="3780000"/>
              <a:ext cx="1495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Get this out for each </a:t>
              </a:r>
              <a:r>
                <a:rPr b="0" lang="en-US" sz="1800" spc="-1" strike="noStrike" baseline="30000">
                  <a:solidFill>
                    <a:srgbClr val="ff0000"/>
                  </a:solidFill>
                  <a:latin typeface="Arial"/>
                </a:rPr>
                <a:t>118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B form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7"/>
          <p:cNvGrpSpPr/>
          <p:nvPr/>
        </p:nvGrpSpPr>
        <p:grpSpPr>
          <a:xfrm>
            <a:off x="4992840" y="2557440"/>
            <a:ext cx="3792240" cy="385920"/>
            <a:chOff x="4992840" y="2557440"/>
            <a:chExt cx="3792240" cy="385920"/>
          </a:xfrm>
        </p:grpSpPr>
        <p:sp>
          <p:nvSpPr>
            <p:cNvPr id="283" name="Line 14"/>
            <p:cNvSpPr/>
            <p:nvPr/>
          </p:nvSpPr>
          <p:spPr>
            <a:xfrm>
              <a:off x="4992840" y="2557440"/>
              <a:ext cx="3125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5"/>
            <p:cNvSpPr/>
            <p:nvPr/>
          </p:nvSpPr>
          <p:spPr>
            <a:xfrm>
              <a:off x="6788160" y="2943360"/>
              <a:ext cx="1297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6"/>
            <p:cNvSpPr/>
            <p:nvPr/>
          </p:nvSpPr>
          <p:spPr>
            <a:xfrm>
              <a:off x="6697800" y="2570040"/>
              <a:ext cx="2087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ore out than in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18"/>
          <p:cNvSpPr/>
          <p:nvPr/>
        </p:nvSpPr>
        <p:spPr>
          <a:xfrm>
            <a:off x="162000" y="3100320"/>
            <a:ext cx="253368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6*7.6 MeV 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1793.6 MeV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(118*8.4 MeV) O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1982.4 Mev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er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-IN = 188.8 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0.8 MeV/Nucl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C833-FC64-4391-ABED-1DC8ECB50A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ssion is a nuclear process in which a heavy nucleus is split into smaller nucl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ontaneous F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heavy nuclei decay spontaneously into smaller nuc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uced F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us is bombarded by a neutron and splits into smaller nuc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processes generally release neutrons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EA05-2ADD-4426-BB57-CD0E1B4A64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74240" y="1317240"/>
            <a:ext cx="89694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nuclear power plants today are based on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duced fiss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 by absorption of a low energy neutr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is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 used instead of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3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mal neutrons are neutrons in thermal equilibrium with the surrounding matter (E=kT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025 eV at room tempera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table5"/>
          <p:cNvPicPr/>
          <p:nvPr/>
        </p:nvPicPr>
        <p:blipFill>
          <a:blip r:embed="rId1"/>
          <a:stretch/>
        </p:blipFill>
        <p:spPr>
          <a:xfrm>
            <a:off x="473040" y="2249640"/>
            <a:ext cx="8497800" cy="191772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5"/>
          <p:cNvGrpSpPr/>
          <p:nvPr/>
        </p:nvGrpSpPr>
        <p:grpSpPr>
          <a:xfrm>
            <a:off x="6040440" y="3809880"/>
            <a:ext cx="3000240" cy="1526040"/>
            <a:chOff x="6040440" y="3809880"/>
            <a:chExt cx="3000240" cy="1526040"/>
          </a:xfrm>
        </p:grpSpPr>
        <p:sp>
          <p:nvSpPr>
            <p:cNvPr id="295" name="Text Box 6"/>
            <p:cNvSpPr/>
            <p:nvPr/>
          </p:nvSpPr>
          <p:spPr>
            <a:xfrm>
              <a:off x="6040440" y="4327200"/>
              <a:ext cx="3000240" cy="10087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ission cross-section fo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hermal (slow) neutron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.e. </a:t>
              </a:r>
              <a:r>
                <a:rPr b="0" lang="en-GB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fission probability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7"/>
            <p:cNvSpPr/>
            <p:nvPr/>
          </p:nvSpPr>
          <p:spPr>
            <a:xfrm flipV="1">
              <a:off x="7651800" y="3809880"/>
              <a:ext cx="0" cy="503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AE2E-BBD0-4097-ABB1-6459EE4258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Kraushaar_fig6"/>
          <p:cNvPicPr/>
          <p:nvPr/>
        </p:nvPicPr>
        <p:blipFill>
          <a:blip r:embed="rId1"/>
          <a:stretch/>
        </p:blipFill>
        <p:spPr>
          <a:xfrm>
            <a:off x="1187280" y="1125360"/>
            <a:ext cx="6834240" cy="52437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Low Energy:  Fission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1403280" y="5445000"/>
            <a:ext cx="1008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5"/>
          <p:cNvSpPr/>
          <p:nvPr/>
        </p:nvSpPr>
        <p:spPr>
          <a:xfrm flipV="1">
            <a:off x="2795760" y="2084040"/>
            <a:ext cx="0" cy="2919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8C38-16C5-4A68-A4F5-9566667C32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ssion Process of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235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1407960" y="4729320"/>
            <a:ext cx="74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 (92 each side) 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92 (U)          →              56 (Ba) + 36 (K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 (144 each side):  1 (n) +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3 (U)          →   3 (n) + 88 (Ba) + 53 (K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6602400" y="2536920"/>
            <a:ext cx="17640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6588000" y="4221000"/>
            <a:ext cx="176400" cy="93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5940720" y="2133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5940720" y="364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74600" y="3514680"/>
            <a:ext cx="182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(Many o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re possi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9"/>
          <p:cNvGrpSpPr/>
          <p:nvPr/>
        </p:nvGrpSpPr>
        <p:grpSpPr>
          <a:xfrm>
            <a:off x="2065320" y="1120680"/>
            <a:ext cx="5102280" cy="3617640"/>
            <a:chOff x="2065320" y="1120680"/>
            <a:chExt cx="5102280" cy="3617640"/>
          </a:xfrm>
        </p:grpSpPr>
        <p:pic>
          <p:nvPicPr>
            <p:cNvPr id="311" name="Picture 10" descr=""/>
            <p:cNvPicPr/>
            <p:nvPr/>
          </p:nvPicPr>
          <p:blipFill>
            <a:blip r:embed="rId1"/>
            <a:srcRect l="0" t="0" r="44754" b="0"/>
            <a:stretch/>
          </p:blipFill>
          <p:spPr>
            <a:xfrm>
              <a:off x="3044880" y="1120680"/>
              <a:ext cx="3330360" cy="36176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12" name="Object 11"/>
                <p:cNvSpPr txBox="1"/>
                <p:nvPr/>
              </p:nvSpPr>
              <p:spPr>
                <a:xfrm>
                  <a:off x="2065320" y="3693960"/>
                  <a:ext cx="91584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56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44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B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88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3" name="Object 12"/>
                <p:cNvSpPr txBox="1"/>
                <p:nvPr/>
              </p:nvSpPr>
              <p:spPr>
                <a:xfrm>
                  <a:off x="6281640" y="3705120"/>
                  <a:ext cx="78444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89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4" name="Object 13"/>
                <p:cNvSpPr txBox="1"/>
                <p:nvPr/>
              </p:nvSpPr>
              <p:spPr>
                <a:xfrm>
                  <a:off x="6332400" y="1615680"/>
                  <a:ext cx="835200" cy="49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rPr>
                              <m:lit/>
                              <m:nor/>
                            </m:rPr>
                            <m:t xml:space="preserve">92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235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4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5" name="Group 14"/>
          <p:cNvGrpSpPr/>
          <p:nvPr/>
        </p:nvGrpSpPr>
        <p:grpSpPr>
          <a:xfrm>
            <a:off x="5141880" y="2655720"/>
            <a:ext cx="2247840" cy="590760"/>
            <a:chOff x="5141880" y="2655720"/>
            <a:chExt cx="2247840" cy="590760"/>
          </a:xfrm>
        </p:grpSpPr>
        <p:sp>
          <p:nvSpPr>
            <p:cNvPr id="316" name="AutoShape 15"/>
            <p:cNvSpPr/>
            <p:nvPr/>
          </p:nvSpPr>
          <p:spPr>
            <a:xfrm>
              <a:off x="5141880" y="2655720"/>
              <a:ext cx="2071800" cy="590760"/>
            </a:xfrm>
            <a:custGeom>
              <a:avLst/>
              <a:gdLst>
                <a:gd name="textAreaLeft" fmla="*/ 323640 w 2071800"/>
                <a:gd name="textAreaRight" fmla="*/ 1813320 w 2071800"/>
                <a:gd name="textAreaTop" fmla="*/ 147600 h 590760"/>
                <a:gd name="textAreaBottom" fmla="*/ 443160 h 59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6"/>
            <p:cNvSpPr/>
            <p:nvPr/>
          </p:nvSpPr>
          <p:spPr>
            <a:xfrm>
              <a:off x="5413320" y="2763720"/>
              <a:ext cx="197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t &amp;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8" name="Object 17"/>
              <p:cNvSpPr txBox="1"/>
              <p:nvPr/>
            </p:nvSpPr>
            <p:spPr>
              <a:xfrm>
                <a:off x="1330200" y="5443560"/>
                <a:ext cx="641196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rage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sPr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5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3</m:t>
                            </m:r>
                          </m:sub>
                        </m:sSub>
                        <m:r>
                          <m:t xml:space="preserve">+</m:t>
                        </m:r>
                        <m:sPr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Pr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6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4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nergy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ν</m:t>
                            </m:r>
                          </m:e>
                        </m:d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nergy</m:t>
                            </m:r>
                          </m:e>
                        </m:d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21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5529-3FA3-4FCD-BA04-FF832BE773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does the released energy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e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72F8-C7FB-4AA6-A219-5B82EE1DD6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42440" y="1066320"/>
            <a:ext cx="8364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inding energy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per nucle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eV for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.59 MeV for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3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nergy 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62 MeV for  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8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nergy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27 MeV for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14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nergy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otal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inding ener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3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36 x 7.59)MeV = 1791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8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r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  89 x 8.62)MeV =   767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14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144 x 8.27)MeV = 1191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etic Energy gained by products in the fission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(767 + 1191 – 1791 ) MeV = 167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1619280" y="3784680"/>
            <a:ext cx="4871880" cy="31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1619280" y="4226040"/>
            <a:ext cx="488628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835280" y="4645080"/>
            <a:ext cx="465588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C17A-7E98-441E-8D87-DA6898BB43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Energy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66560" y="1393920"/>
          <a:ext cx="8067960" cy="3938400"/>
        </p:xfrm>
        <a:graphic>
          <a:graphicData uri="http://schemas.openxmlformats.org/drawingml/2006/table">
            <a:tbl>
              <a:tblPr/>
              <a:tblGrid>
                <a:gridCol w="5031000"/>
                <a:gridCol w="30369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 of Energy Releas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Released (M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tic energy of two fission fragme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 gamma ray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ed gamma ray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of decay products of fission fragments (e.g. 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 and 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 can themselves dec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mma ray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 partic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verage total energy released per fissio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~215 M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Rectangle 28"/>
          <p:cNvSpPr/>
          <p:nvPr/>
        </p:nvSpPr>
        <p:spPr>
          <a:xfrm>
            <a:off x="339840" y="5235480"/>
            <a:ext cx="880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utrons and the fission products share that energy as kinetic energy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llide with the surrounding materi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loose that kinetic energy as heat to the surroundings (165-170 MeV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C9BF-35F8-47A1-AC79-CCF0424C29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d to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photosynthesis 29 eV is stored when carbohydrate is forme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+6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+29eV→C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+6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much is stored per nucle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:  Z+N =14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:  Z+N = 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:  Z+N =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9 / (6x14 + 12x1 + 6x16) eV/nucle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29/192 eV/nucle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0.15      eV/nucle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molecu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inding energy of the carbohydrate is released when the biomass (or hydrocarbons) is combu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fission of 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3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, ~200 MeV i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nuclear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energy per nucleon is ~ 8 Me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.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0" lang="en-GB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times more than what is stored in biomas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9350-2614-4365-85B3-06A7AEF952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ransport of electric ener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6943-D836-4C1E-9684-E31C7A8C71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table5"/>
          <p:cNvPicPr/>
          <p:nvPr/>
        </p:nvPicPr>
        <p:blipFill>
          <a:blip r:embed="rId1"/>
          <a:stretch/>
        </p:blipFill>
        <p:spPr>
          <a:xfrm>
            <a:off x="468360" y="1989000"/>
            <a:ext cx="8424720" cy="19004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clear (fission) power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ically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3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 is used as a fuel (natural or enriched urani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ic re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 the reaction with a few external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tain 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hain reaction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th the product neu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keeps reaction going while producing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nergy liberated in the fission processes i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onverted to hea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which drives a heat engine, usually based on s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2771640" y="3825720"/>
                <a:ext cx="611676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Pr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5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3</m:t>
                            </m:r>
                          </m:sub>
                        </m:sSub>
                        <m:r>
                          <m:t xml:space="preserve">+</m:t>
                        </m:r>
                        <m:sPr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Pr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6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4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ν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nergy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ν</m:t>
                            </m:r>
                          </m:e>
                        </m:d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nergy</m:t>
                            </m:r>
                          </m:e>
                        </m:d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21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8061-7DAA-4E99-BF94-B20B8E54AC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Sustaining or Chai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we get more neutrons out of the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reaction than we put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a catalyt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 in 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extra neutr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use other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i to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4"/>
          <p:cNvGrpSpPr/>
          <p:nvPr/>
        </p:nvGrpSpPr>
        <p:grpSpPr>
          <a:xfrm>
            <a:off x="4297320" y="2052720"/>
            <a:ext cx="3716280" cy="1529640"/>
            <a:chOff x="4297320" y="2052720"/>
            <a:chExt cx="3716280" cy="1529640"/>
          </a:xfrm>
        </p:grpSpPr>
        <p:pic>
          <p:nvPicPr>
            <p:cNvPr id="344" name="Picture 5" descr=""/>
            <p:cNvPicPr/>
            <p:nvPr/>
          </p:nvPicPr>
          <p:blipFill>
            <a:blip r:embed="rId1"/>
            <a:stretch/>
          </p:blipFill>
          <p:spPr>
            <a:xfrm>
              <a:off x="4297320" y="2052720"/>
              <a:ext cx="371628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6"/>
            <p:cNvSpPr/>
            <p:nvPr/>
          </p:nvSpPr>
          <p:spPr>
            <a:xfrm>
              <a:off x="6967080" y="3305880"/>
              <a:ext cx="23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7"/>
            <p:cNvSpPr/>
            <p:nvPr/>
          </p:nvSpPr>
          <p:spPr>
            <a:xfrm>
              <a:off x="6941880" y="2137680"/>
              <a:ext cx="23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7" name="Picture 8" descr=""/>
          <p:cNvPicPr/>
          <p:nvPr/>
        </p:nvPicPr>
        <p:blipFill>
          <a:blip r:embed="rId2"/>
          <a:stretch/>
        </p:blipFill>
        <p:spPr>
          <a:xfrm>
            <a:off x="4302000" y="3741840"/>
            <a:ext cx="4435560" cy="29415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9"/>
          <p:cNvSpPr/>
          <p:nvPr/>
        </p:nvSpPr>
        <p:spPr>
          <a:xfrm>
            <a:off x="8001000" y="2664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~5M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3BCF-5868-4A82-9CBD-298EE1771B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Kraushaar_fig6"/>
          <p:cNvPicPr/>
          <p:nvPr/>
        </p:nvPicPr>
        <p:blipFill>
          <a:blip r:embed="rId1"/>
          <a:stretch/>
        </p:blipFill>
        <p:spPr>
          <a:xfrm>
            <a:off x="1187280" y="1125360"/>
            <a:ext cx="6834240" cy="524376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Fission probability small for 5 MeV neu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1403280" y="5445000"/>
            <a:ext cx="1008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5"/>
          <p:cNvSpPr/>
          <p:nvPr/>
        </p:nvSpPr>
        <p:spPr>
          <a:xfrm flipV="1">
            <a:off x="6945480" y="3492000"/>
            <a:ext cx="0" cy="1546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5312-D143-4EFF-8D69-798ED72B43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can the fission cross-section be increased?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ow down the fast (5 MeV) neut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reach thermal energies (0.025 eV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want them all lost to absor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moderator (usually water) a neutron at high speed hits a proton at 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ce the proton and the neutron have similar mass, the neutron looses half its kinetic energy in the coll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many collisions the neutrons reach thermal energies where the fission cross-section is hi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C9AE-E6C1-41D2-B736-B25C79984D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tainable Chai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86840" y="1290240"/>
            <a:ext cx="8782200" cy="55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ll 2.43 neutrons went off to initiate new fission events the energy released grow rapid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in a bomb.  Less desirable in a nuclear power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tunately during the slow-down process the neutrons can be absorbed in the moderator, in the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3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 or in the reactor ves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he number of liberated neutrons per fission event (2.43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reduced to the so-called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multiplication fact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chainreactionanim"/>
          <p:cNvPicPr/>
          <p:nvPr/>
        </p:nvPicPr>
        <p:blipFill>
          <a:blip r:embed="rId1"/>
          <a:stretch/>
        </p:blipFill>
        <p:spPr>
          <a:xfrm>
            <a:off x="2095560" y="1998720"/>
            <a:ext cx="45720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F63C-DFD7-4287-AC10-E1DE45BDF6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utron escape and reactor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5920" y="1600200"/>
            <a:ext cx="882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 reactor is of infinite size, no neutrons will be lost to the out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his case the multiplication factor is called k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∞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nd it is always larger than k for a real sized re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a typical reactor k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∞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in the order of 1.10 to 1.20 </a:t>
            </a:r>
            <a:r>
              <a:rPr b="1" i="1" lang="en-GB" sz="2000" spc="-1" strike="noStrike">
                <a:solidFill>
                  <a:srgbClr val="ff0000"/>
                </a:solidFill>
                <a:latin typeface="Arial"/>
              </a:rPr>
              <a:t>(still a bomb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ider a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spheric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or with k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∞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and let the size decrease until at a certain stage k=1 (</a:t>
            </a:r>
            <a:r>
              <a:rPr b="1" i="1" lang="en-GB" sz="2000" spc="-1" strike="noStrike">
                <a:solidFill>
                  <a:srgbClr val="ff0000"/>
                </a:solidFill>
                <a:latin typeface="Arial"/>
              </a:rPr>
              <a:t>1 neutron in, only one out for next ev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, k=1, is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ritical siz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reactor.  If the reactor is larger than the critical size,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hain reaction will be unstab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different shape would have a surface/volume ratio larger than that of a sphere, so more neutrons lost at the surface (k will be &lt; k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sphe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.  Thus the reactor could be enlarged before reaching critical size (hold more fue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ly, non-spherical shapes safer to work with than spher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C1C6-6778-49F7-ACF5-9C3F8E51CE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eady-state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8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steady state operation, we want k=1, so k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ust be larger than 1 (since k&lt; k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ximum value for k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GB" sz="24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number of fast neutrons liberated in each fission proce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mber that on average</a:t>
            </a:r>
            <a:r>
              <a:rPr b="0" lang="en-GB" sz="24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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2.43, so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e can not afford to loose to many neutrons in the moderation proc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reactor using natural uranium, there is only 0.7%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, so neutrons hit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3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 more often and can be absor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reactor is also using ordinary water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as a moderator, many neutrons are absorb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with ordinary uranium in water, k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∞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only 1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much to work with in reacto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2726-2AB1-499D-B6AD-278C65222B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91760" y="132552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rich the uranium, to about 2.5%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“heavy water”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as moderator that absorb fewer  neutrons while      has more stopping power than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intain k=1, control rods that absorb the excess neutrons (k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∞</a:t>
            </a:r>
            <a:r>
              <a:rPr b="0" lang="en-GB" sz="24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), are used in the re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fig5"/>
          <p:cNvPicPr/>
          <p:nvPr/>
        </p:nvPicPr>
        <p:blipFill>
          <a:blip r:embed="rId1"/>
          <a:srcRect l="3586" t="5191" r="2151" b="5191"/>
          <a:stretch/>
        </p:blipFill>
        <p:spPr>
          <a:xfrm>
            <a:off x="857160" y="3836880"/>
            <a:ext cx="7078680" cy="2789280"/>
          </a:xfrm>
          <a:prstGeom prst="rect">
            <a:avLst/>
          </a:prstGeom>
          <a:ln w="0">
            <a:noFill/>
          </a:ln>
        </p:spPr>
      </p:pic>
      <p:grpSp>
        <p:nvGrpSpPr>
          <p:cNvPr id="371" name="Group 6"/>
          <p:cNvGrpSpPr/>
          <p:nvPr/>
        </p:nvGrpSpPr>
        <p:grpSpPr>
          <a:xfrm>
            <a:off x="6481800" y="3792600"/>
            <a:ext cx="2662200" cy="772200"/>
            <a:chOff x="6481800" y="3792600"/>
            <a:chExt cx="2662200" cy="772200"/>
          </a:xfrm>
        </p:grpSpPr>
        <p:sp>
          <p:nvSpPr>
            <p:cNvPr id="372" name="Rectangle 7"/>
            <p:cNvSpPr/>
            <p:nvPr/>
          </p:nvSpPr>
          <p:spPr>
            <a:xfrm>
              <a:off x="6481800" y="4102200"/>
              <a:ext cx="577800" cy="253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8"/>
            <p:cNvSpPr/>
            <p:nvPr/>
          </p:nvSpPr>
          <p:spPr>
            <a:xfrm>
              <a:off x="7032600" y="3792600"/>
              <a:ext cx="2111400" cy="7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 steam ~30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34% (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Carno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2968560" y="2187720"/>
            <a:ext cx="4908600" cy="390240"/>
            <a:chOff x="2968560" y="2187720"/>
            <a:chExt cx="4908600" cy="390240"/>
          </a:xfrm>
        </p:grpSpPr>
        <mc:AlternateContent>
          <mc:Choice xmlns:a14="http://schemas.microsoft.com/office/drawing/2010/main" Requires="a14">
            <p:sp>
              <p:nvSpPr>
                <p:cNvPr id="375" name="Object 10"/>
                <p:cNvSpPr txBox="1"/>
                <p:nvPr/>
              </p:nvSpPr>
              <p:spPr>
                <a:xfrm>
                  <a:off x="2968560" y="2198520"/>
                  <a:ext cx="35892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6" name="Object 11"/>
                <p:cNvSpPr txBox="1"/>
                <p:nvPr/>
              </p:nvSpPr>
              <p:spPr>
                <a:xfrm>
                  <a:off x="7518240" y="2187720"/>
                  <a:ext cx="35892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Pr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</m:e>
                      </m:sPre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91A2-D9B7-454A-91B7-0AADC6DC49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The ”life and death” of neutrons in U fission re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tart with 1 slow (thermal) neutron, go via 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fast neutrons, end up with k slow 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teady-state:  k=1    (&lt; k</a:t>
            </a:r>
            <a:r>
              <a:rPr b="0" lang="nb-NO" sz="2400" spc="-1" strike="noStrike" baseline="-25000">
                <a:solidFill>
                  <a:srgbClr val="000000"/>
                </a:solidFill>
                <a:latin typeface="Arial"/>
              </a:rPr>
              <a:t>∞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one new slow neutron per incoming slow neu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4"/>
          <p:cNvGraphicFramePr/>
          <p:nvPr/>
        </p:nvGraphicFramePr>
        <p:xfrm>
          <a:off x="2068560" y="2975040"/>
          <a:ext cx="3848040" cy="17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8560" y="2975040"/>
                    <a:ext cx="384804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A190-69AF-4E09-BD37-27078C7DE6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cabulary: Fissionable and fissile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y heavy elements, such as uranium, thorium, and plutonium, undergo both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pontaneous fiss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radioactive decay) and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duced fiss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a nuclear reac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otopes that undergo induced fission when struck by a free neutron are called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fission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otopes that can sustain a chain reaction (at least one neutron is a product) are also called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fissi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i.e. not all fissionable isotopes are fiss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few particularly fissile and readily obtainable isotopes (notably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3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 and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3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) are called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uclear fuel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cause they can sustain a chain reaction and can be obtained in large enough quantities to be use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3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 is fissionable (with fast neutrons), but not fiss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7AD7-6377-4C98-AF00-0F8EFF581D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ic Energy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port of electric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ported as current (either AC or 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hmic losses are the most important: 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lo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power sent along the power line:  P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atio of power lost to power transpo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ratio should be as small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R (thicker wire → expensive, or use superconductor R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 V (typically 380 000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2411280" y="3573360"/>
          <a:ext cx="3024360" cy="9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573360"/>
                    <a:ext cx="302436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CB63-39CB-44A2-849A-5D346C6F02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dependence an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reactor a neutron reproduces itself in a time 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eutrons will first slow down by collisions and then stay for some time with thermal energies in the moderator, before they are absorbed by the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3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 of one of the fuel r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 the neutrons immediately cause another f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 is typically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E322-A11A-4A96-AD66-2D958AF495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isturbance from steady-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me that k increases from k=1 to k=1+</a:t>
            </a:r>
            <a:r>
              <a:rPr b="0" lang="en-GB" sz="24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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 during a time interval dt=L, the number of neutrons have increased from N to kN = (1+</a:t>
            </a:r>
            <a:r>
              <a:rPr b="0" lang="en-GB" sz="24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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N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or from N to N+dN, giving dN=</a:t>
            </a:r>
            <a:r>
              <a:rPr b="0" lang="en-GB" sz="24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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can express this as a different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N/dt = </a:t>
            </a:r>
            <a:r>
              <a:rPr b="0" lang="en-GB" sz="24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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can be integrated to giv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(t)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xp(</a:t>
            </a:r>
            <a:r>
              <a:rPr b="0" lang="en-GB" sz="24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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/L)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xp(t/</a:t>
            </a:r>
            <a:r>
              <a:rPr b="0" lang="en-GB" sz="24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GB" sz="24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L/</a:t>
            </a:r>
            <a:r>
              <a:rPr b="0" lang="en-GB" sz="24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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the time constant of the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292A-53D2-4C4D-9840-ED3103178A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numerical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 the disturbance be small; </a:t>
            </a:r>
            <a:r>
              <a:rPr b="0" lang="en-GB" sz="24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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 with L=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4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the time constant becomes </a:t>
            </a:r>
            <a:r>
              <a:rPr b="0" lang="en-GB" sz="24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0.1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after 10 seconds (t=10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(10)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xp(10/0.1) =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xp(100) =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4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uring these 10 secon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amount of liberated energy has increased by the same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4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actor, and a melt down, chemical explosions and possibly a blow-up of the container would have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us time constants of </a:t>
            </a:r>
            <a:r>
              <a:rPr b="0" lang="en-GB" sz="24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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0.1 s gives very little reaction time for counter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can we still have reasonably controllable reac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6454800" y="25560"/>
            <a:ext cx="2689200" cy="2022120"/>
            <a:chOff x="6454800" y="25560"/>
            <a:chExt cx="2689200" cy="2022120"/>
          </a:xfrm>
        </p:grpSpPr>
        <p:pic>
          <p:nvPicPr>
            <p:cNvPr id="395" name="Picture 5" descr=""/>
            <p:cNvPicPr/>
            <p:nvPr/>
          </p:nvPicPr>
          <p:blipFill>
            <a:blip r:embed="rId1"/>
            <a:stretch/>
          </p:blipFill>
          <p:spPr>
            <a:xfrm>
              <a:off x="6454800" y="25560"/>
              <a:ext cx="2666880" cy="19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Text Box 6"/>
            <p:cNvSpPr/>
            <p:nvPr/>
          </p:nvSpPr>
          <p:spPr>
            <a:xfrm>
              <a:off x="6462720" y="1679400"/>
              <a:ext cx="2681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800" spc="-1" strike="noStrike">
                  <a:solidFill>
                    <a:srgbClr val="000000"/>
                  </a:solidFill>
                  <a:latin typeface="Arial"/>
                </a:rPr>
                <a:t>Dooo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EB6E-C4AF-4A1D-902F-3E680B6E92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layed neu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was a mistake in the presented calc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all neutrons are liberated immediately in the fiss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mall fraction</a:t>
            </a:r>
            <a:r>
              <a:rPr b="0" lang="en-GB" sz="24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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0.0065 result from the decay of the fission products X and Y and their “daughters”, and are calle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elayed neutr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average the delay time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9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ing the delay time the reproduction time becomes L*=(1-</a:t>
            </a:r>
            <a:r>
              <a:rPr b="0" lang="en-GB" sz="24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L + </a:t>
            </a:r>
            <a:r>
              <a:rPr b="0" lang="en-GB" sz="24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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0.05 s (indeed, this is &gt;&gt; L=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 the time constant becomes</a:t>
            </a:r>
            <a:r>
              <a:rPr b="0" lang="en-GB" sz="24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</a:t>
            </a:r>
            <a:r>
              <a:rPr b="0" lang="en-GB" sz="2400" spc="-1" strike="noStrike" baseline="30000">
                <a:solidFill>
                  <a:srgbClr val="000000"/>
                </a:solidFill>
                <a:latin typeface="Symbol Set SWA"/>
                <a:ea typeface="Symbol Set SWA"/>
              </a:rPr>
              <a:t></a:t>
            </a:r>
            <a:r>
              <a:rPr b="0" lang="en-GB" sz="24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L*/</a:t>
            </a:r>
            <a:r>
              <a:rPr b="0" lang="en-GB" sz="24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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50 s, which is long enough to take mechanical counter measures, such as pushing in the neutron absorbing control r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6284880" y="76320"/>
            <a:ext cx="2738160" cy="1616040"/>
            <a:chOff x="6284880" y="76320"/>
            <a:chExt cx="2738160" cy="1616040"/>
          </a:xfrm>
        </p:grpSpPr>
        <p:pic>
          <p:nvPicPr>
            <p:cNvPr id="401" name="Picture 4" descr=""/>
            <p:cNvPicPr/>
            <p:nvPr/>
          </p:nvPicPr>
          <p:blipFill>
            <a:blip r:embed="rId1"/>
            <a:stretch/>
          </p:blipFill>
          <p:spPr>
            <a:xfrm>
              <a:off x="6284880" y="76320"/>
              <a:ext cx="136656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Text Box 5"/>
            <p:cNvSpPr/>
            <p:nvPr/>
          </p:nvSpPr>
          <p:spPr>
            <a:xfrm>
              <a:off x="7699320" y="235080"/>
              <a:ext cx="1323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800" spc="-1" strike="noStrike">
                  <a:solidFill>
                    <a:srgbClr val="000000"/>
                  </a:solidFill>
                  <a:latin typeface="Arial"/>
                </a:rPr>
                <a:t>Mmm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1800" spc="-1" strike="noStrike">
                  <a:solidFill>
                    <a:srgbClr val="000000"/>
                  </a:solidFill>
                  <a:latin typeface="Arial"/>
                </a:rPr>
                <a:t>Doughn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7553-A1C2-4C6A-A7A5-3A335B3582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means that after 10 seconds (with a time constant of </a:t>
            </a:r>
            <a:r>
              <a:rPr b="0" lang="en-GB" sz="2000" spc="-1" strike="noStrike">
                <a:solidFill>
                  <a:srgbClr val="000000"/>
                </a:solidFill>
                <a:latin typeface="Symbol Set SWA"/>
                <a:ea typeface="Symbol Set SWA"/>
              </a:rPr>
              <a:t>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50 s)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(10) = 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xp(10/50) = 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xp(0.5) = 1.6 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umber of neutrons will have increased by a factor 10 after a time t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hat is foun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xp(t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50) → ln(10)=t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50 →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GB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10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=50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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n(10) = 115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by a factor 100 after a time t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hat is foun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0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xp(t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50) → ln(100)=t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50 →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n-GB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100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=50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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n(100) = 230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very large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then the time constant shortens to the point where we the prompt neutrons are back in control.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.59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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.1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8868-711A-454D-A7A7-4FF06B50A8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sis for nuclear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principles of f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ssion power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Real re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BWR, PWR, CANDU, HTG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Burners, converters and bree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B04A-F712-4B20-AE8B-DA8AA00BE7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arious nuclea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all nuclear power plants are the sa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are various systems which are characterised by three bas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enriched or natural uranium; plutonium, thorium (rarely us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derat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ordinary water; heavy water; graph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at exchanger fluid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dinary water either pressurised or boiling; heavy water; carbon dioxide; sodium; hel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essurized water reactor (PWR) is the most widely used reac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 in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F376-E228-4C6F-B7A0-AFE979DE5B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317080" cy="40734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surised water re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866160" y="5656320"/>
            <a:ext cx="807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r pressure: higher boiling point:  warmer water (320C @150 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iciency : 3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3D69-CEC8-4A9F-B391-457A2BEC98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04360" cy="36324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iling water re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4790160" y="573408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fficiency: 3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916E-12CE-40B9-BA53-4EDE0F2F54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519120" y="0"/>
            <a:ext cx="62784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3"/>
          <p:cNvSpPr/>
          <p:nvPr/>
        </p:nvSpPr>
        <p:spPr>
          <a:xfrm>
            <a:off x="6845400" y="2649600"/>
            <a:ext cx="20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Institution of Engineering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9AEA-5A9D-4EC8-A6EB-DCEE32374B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wer lines and health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ernating currents in the wires induce alternating magnetic fields that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 harmful, by inducing currents in the human body (and other conductive objec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most cases the currents produced by the body itself (in the brain and to keep the heart going) ar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ar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still there are no firm conclusions on the health risks connected to being close to power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more research on the effect of electromagnetic radiation, not only for power lines, but also for e.g. mobile ph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 transported as Phased power to reduce radiated power (i.e. 3 ph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0B6F-A6EB-4CE7-96AD-FB220ACDE6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rners, converters and bree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09160" y="1600200"/>
            <a:ext cx="876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ctors such as BWR and PWR are calle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vert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 They produce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3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 and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3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 which could be used to run reactors from the reaction of FAST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is,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3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 and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3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 are fissile with fast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version Ratio = (fissile material produced) / (fuel burned) is used to classify re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conversion ratio is 0 the reactor is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rn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if it is between 0 and 1 it is 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nvert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if it is larger than 1 it is 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bree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5DE4-2463-4A6C-AB47-40EC47B2B9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ee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reeder produces more fuel than it bu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breeder extra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3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 is put into the reactor core, to make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3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fast breeder reactor (FBR), the chain reaction is sustained b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ast neutrons (no need for moderator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eeders and bom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ritical mass is the minimum amount of fissile material that can sustain a chain reaction internally (and therefore explo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 has a smaller critical mass than U, so it takes less material to make a bom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810F-4D76-459B-9262-95376CAFAB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eeder advantages and 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5160" y="1315800"/>
            <a:ext cx="876924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 Breeder power plants might not run out of fuel in 50 00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 With sea water extraction of Uranium, breeder power plants would last as long a the Earth Su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 is used as a fuel, but Pu is also used in nuclear weap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adioactive fuel needs to be reprocessed, to extract the bred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ty issues during transportation and handling (environment, health, nuclear weap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have also been practic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17F9-6375-44EE-B665-DB29B1A59D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Uranium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i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diation an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B10F-05BD-4D2B-8DE4-41A3978798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387360" y="453960"/>
            <a:ext cx="4203720" cy="52545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174600" y="5756400"/>
            <a:ext cx="454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citive coupling with high-voltage power lines can light a lamp continuously at low intensity--Wikipe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2"/>
          <a:stretch/>
        </p:blipFill>
        <p:spPr>
          <a:xfrm>
            <a:off x="4829040" y="177840"/>
            <a:ext cx="4046760" cy="290664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18"/>
          <p:cNvGrpSpPr/>
          <p:nvPr/>
        </p:nvGrpSpPr>
        <p:grpSpPr>
          <a:xfrm>
            <a:off x="4570560" y="3141720"/>
            <a:ext cx="4547880" cy="3093840"/>
            <a:chOff x="4570560" y="3141720"/>
            <a:chExt cx="4547880" cy="3093840"/>
          </a:xfrm>
        </p:grpSpPr>
        <p:sp>
          <p:nvSpPr>
            <p:cNvPr id="193" name="Text Box 16"/>
            <p:cNvSpPr/>
            <p:nvPr/>
          </p:nvSpPr>
          <p:spPr>
            <a:xfrm>
              <a:off x="4570560" y="5589360"/>
              <a:ext cx="454788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s this your brain on EMF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ttp://www.treehugger.com/files/2008/02/emf_richard_box.ph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17" descr=""/>
            <p:cNvPicPr/>
            <p:nvPr/>
          </p:nvPicPr>
          <p:blipFill>
            <a:blip r:embed="rId3"/>
            <a:stretch/>
          </p:blipFill>
          <p:spPr>
            <a:xfrm>
              <a:off x="4632120" y="3141720"/>
              <a:ext cx="4485960" cy="2492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AEED-BC3D-4AF7-9862-DE4CF1A0B7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port of electric energy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Energy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clear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62C6-F6CE-4AD1-9DBE-9C2EFD6688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ergy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ergy is not always converted when it is needed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needs to be stored –particularly true for renew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ational storage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—hydro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ywheels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½ mr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4235400" y="2943360"/>
            <a:ext cx="4908600" cy="3681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 rot="16200000">
            <a:off x="2671920" y="4799880"/>
            <a:ext cx="28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available energy pe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4956120" y="6573960"/>
            <a:ext cx="395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at which available energy can be taken pe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9FD5-0E18-4E63-9F2B-8F19EAB48A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table 4"/>
          <p:cNvPicPr/>
          <p:nvPr/>
        </p:nvPicPr>
        <p:blipFill>
          <a:blip r:embed="rId1"/>
          <a:stretch/>
        </p:blipFill>
        <p:spPr>
          <a:xfrm>
            <a:off x="179280" y="765000"/>
            <a:ext cx="8964720" cy="45133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5391000" y="2809800"/>
            <a:ext cx="7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/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4"/>
          <p:cNvSpPr/>
          <p:nvPr/>
        </p:nvSpPr>
        <p:spPr>
          <a:xfrm>
            <a:off x="5016600" y="2743200"/>
            <a:ext cx="1089000" cy="469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0:16:01Z</dcterms:created>
  <dc:creator>Patrick</dc:creator>
  <dc:description/>
  <dc:language>en-US</dc:language>
  <cp:lastModifiedBy>Patrick Joseph Espy</cp:lastModifiedBy>
  <cp:lastPrinted>2012-09-05T09:07:20Z</cp:lastPrinted>
  <dcterms:modified xsi:type="dcterms:W3CDTF">2023-05-26T22:01:44Z</dcterms:modified>
  <cp:revision>74</cp:revision>
  <dc:subject/>
  <dc:title>Conventional energy part 2 </dc:title>
</cp:coreProperties>
</file>